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4DC2-7988-4101-924F-081F0BD7C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3E33-4A05-4847-A7D1-90745B52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8707-1297-4997-80E5-D08B53663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61F3-A0AF-472D-B4D3-9D890227B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7381-D80A-4C8E-A6A8-F2ABD945C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ED6A-BA04-425A-B387-726A0500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581E-05BD-4630-8C44-5312F0FF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146B-4581-4600-9BAF-C0A289AB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2181-53DB-43B0-B8F3-8C41FAD6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09E8-1D1C-4BD3-9B7B-051C846F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2ADF-E65B-4E03-9D8E-61E04F58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B052-C299-4806-BDDD-635F4FC3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5322-3712-489B-9D04-F60E2E7A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0F20-5520-4D65-A413-5877583A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0585-729B-4F53-8A3D-C7598D83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AE5D-C204-4677-BEEB-A34E64EE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920E-BCB9-4C52-A93A-03F8198EA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BC7C-7275-4E28-B006-08FE5865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EBA7-E75E-4953-99EE-BE1CA060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957A-33A9-46F7-B662-259A1F3E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3D47-BF2B-412A-8EB1-74F9130E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5257-A1EB-4126-8818-3FFD84B4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C47C-C0CF-450D-BE0D-ACDEC6EE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D225-7715-4320-A2CE-0AE89C8E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4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208D-3A37-4DD9-B2ED-1D9EEC8053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27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2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42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22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23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25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33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34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35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36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37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137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128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49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5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56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46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50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51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126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32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45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47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48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52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5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5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57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136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2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5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141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132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30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131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31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38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39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0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1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2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43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44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140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50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60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28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29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30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57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31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32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33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34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35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59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37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38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39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58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40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41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42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43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44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45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4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2A4D-AD8D-4C02-890C-B593EBF0D1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360" y="1844280"/>
            <a:ext cx="6400800" cy="1841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Comic Sans MS"/>
              </a:rPr>
              <a:t>Пропорции и строение фигуры человек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omic Sans MS"/>
              </a:rPr>
              <a:t>Выполнение аппликации «ЦИРК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6870600" cy="14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Египтяне пользовались и специальными сетками-таблицами, которые наносили на поверхность каменной плиты или стены для создания рельефа или роспис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4" descr="а_0012"/>
          <p:cNvPicPr/>
          <p:nvPr/>
        </p:nvPicPr>
        <p:blipFill>
          <a:blip r:embed="rId1"/>
          <a:stretch/>
        </p:blipFill>
        <p:spPr>
          <a:xfrm>
            <a:off x="5640480" y="1700280"/>
            <a:ext cx="2993760" cy="388944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5"/>
          <p:cNvSpPr/>
          <p:nvPr/>
        </p:nvSpPr>
        <p:spPr>
          <a:xfrm>
            <a:off x="324000" y="2205000"/>
            <a:ext cx="5472000" cy="259236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Определенные размеры для сидячих фигур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Изображение разных богов в соответстви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с их иерархическим старшинством.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Детей изображали как взрослых, но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значительно меньших по размер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2484360" y="5661000"/>
            <a:ext cx="6659640" cy="10080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Нанесение квадратной сетки помогает более точно передать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пропорции фигуры и выполнять части одного произвед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разными мастерам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4067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Скульптор Поликлет в </a:t>
            </a: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V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веке до н. э. создал систему идеальных пропорций человеческой фигуры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открытие пропорций связывают с ПИФАГОРОМ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Золотое сечение – это универсальный принцип гармонии 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красоты в пропорциях, которое олицетворяло равновеси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знаний, чувств и сил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4284720" y="981000"/>
            <a:ext cx="39592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Леонардо да Винчи разрабатыва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правила изображ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человеческой фигуры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пытаясь восстановить так называемый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200"/>
                </a:solidFill>
                <a:latin typeface="Comic Sans MS"/>
              </a:rPr>
              <a:t>«квадрат древних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18" descr="а_0002"/>
          <p:cNvPicPr/>
          <p:nvPr/>
        </p:nvPicPr>
        <p:blipFill>
          <a:blip r:embed="rId1"/>
          <a:stretch/>
        </p:blipFill>
        <p:spPr>
          <a:xfrm>
            <a:off x="4932360" y="2492280"/>
            <a:ext cx="3390840" cy="36576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9"/>
          <p:cNvSpPr/>
          <p:nvPr/>
        </p:nvSpPr>
        <p:spPr>
          <a:xfrm>
            <a:off x="1798560" y="6021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Он выполнил рисунок, в котором показана пропорциональная закономерность в соотношении частей тела человек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4512240" y="404640"/>
            <a:ext cx="33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Эпоха возрожд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498960" y="189000"/>
            <a:ext cx="27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Древняя Грец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80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Над выработкой канонов пропорций трудились такие знаменитые мастера эпохи Возрождения, как </a:t>
            </a: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С. БОТИЧЕЛИ и МИКЕЛАНДЖЕЛ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4" descr="а_0003"/>
          <p:cNvPicPr/>
          <p:nvPr/>
        </p:nvPicPr>
        <p:blipFill>
          <a:blip r:embed="rId1"/>
          <a:stretch/>
        </p:blipFill>
        <p:spPr>
          <a:xfrm>
            <a:off x="1979640" y="1773360"/>
            <a:ext cx="2374920" cy="4680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а_0004"/>
          <p:cNvPicPr/>
          <p:nvPr/>
        </p:nvPicPr>
        <p:blipFill>
          <a:blip r:embed="rId2"/>
          <a:stretch/>
        </p:blipFill>
        <p:spPr>
          <a:xfrm>
            <a:off x="5364000" y="1773360"/>
            <a:ext cx="23972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687060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Художники и архитекторы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Comic Sans MS"/>
              </a:rPr>
              <a:t>XX</a:t>
            </a: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ве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3534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Французский зодчий </a:t>
            </a: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Ле Корбюзье в 1947г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разработал «Модулор» - систему дел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человеческой фигуры на согласованные в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золотом сечении отрезки от ступни до талии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от талии до затылка и о затылка до верх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пальцев поднятой рук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На этой основе была создана школ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модулей для архитектурного проектирова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и дизайн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4" descr="а_0005"/>
          <p:cNvPicPr/>
          <p:nvPr/>
        </p:nvPicPr>
        <p:blipFill>
          <a:blip r:embed="rId1"/>
          <a:stretch/>
        </p:blipFill>
        <p:spPr>
          <a:xfrm>
            <a:off x="5724360" y="1773360"/>
            <a:ext cx="2880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ропорции всякого живого организма, развиваясь, изменяют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Ребенок четырех-пяти лет – 1/4 или 1/5 час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Подросток – примерно 1/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Взрослый человек – размер голов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занимает примерно 1/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или 1/8 часть его рост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4" descr="а_0006"/>
          <p:cNvPicPr/>
          <p:nvPr/>
        </p:nvPicPr>
        <p:blipFill>
          <a:blip r:embed="rId1"/>
          <a:stretch/>
        </p:blipFill>
        <p:spPr>
          <a:xfrm>
            <a:off x="5867280" y="2133720"/>
            <a:ext cx="2872080" cy="29685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1187280" y="5300640"/>
            <a:ext cx="7777440" cy="649440"/>
          </a:xfrm>
          <a:prstGeom prst="rect">
            <a:avLst/>
          </a:prstGeom>
          <a:solidFill>
            <a:srgbClr val="ffef66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У каждого человека свои характерные пропор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Форму и движения тела человека во многом определяет скел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Скелет играет роль каркаса в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строении фигу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4" descr="а_0007"/>
          <p:cNvPicPr/>
          <p:nvPr/>
        </p:nvPicPr>
        <p:blipFill>
          <a:blip r:embed="rId1"/>
          <a:stretch/>
        </p:blipFill>
        <p:spPr>
          <a:xfrm>
            <a:off x="5435640" y="1413000"/>
            <a:ext cx="27702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25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Полезно, передавая в рисунке форму человеческого тела и любого другого объекта, не только учитывать, но и намечать его каркас даже в тех случаях, когда он находится  внутри и его можно себе только представить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4" descr="16"/>
          <p:cNvPicPr/>
          <p:nvPr/>
        </p:nvPicPr>
        <p:blipFill>
          <a:blip r:embed="rId1"/>
          <a:stretch/>
        </p:blipFill>
        <p:spPr>
          <a:xfrm>
            <a:off x="1619280" y="2924280"/>
            <a:ext cx="6192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687096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Выполнение аппликац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    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Сегодня мы выполним пропорциональную фигуру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          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человека, используя метод аппликац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1. Деление квадрата на ча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4" descr="а_0008"/>
          <p:cNvPicPr/>
          <p:nvPr/>
        </p:nvPicPr>
        <p:blipFill>
          <a:blip r:embed="rId1"/>
          <a:stretch/>
        </p:blipFill>
        <p:spPr>
          <a:xfrm>
            <a:off x="4716360" y="2205000"/>
            <a:ext cx="41036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2324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2. Выполнение частей фигурки 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   человечка из альбомного лис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4" descr="а_0009"/>
          <p:cNvPicPr/>
          <p:nvPr/>
        </p:nvPicPr>
        <p:blipFill>
          <a:blip r:embed="rId1"/>
          <a:stretch/>
        </p:blipFill>
        <p:spPr>
          <a:xfrm>
            <a:off x="2411280" y="1628640"/>
            <a:ext cx="4608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6" descr="а_0010"/>
          <p:cNvPicPr/>
          <p:nvPr/>
        </p:nvPicPr>
        <p:blipFill>
          <a:blip r:embed="rId1"/>
          <a:stretch/>
        </p:blipFill>
        <p:spPr>
          <a:xfrm>
            <a:off x="2771640" y="1557360"/>
            <a:ext cx="3888000" cy="40323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1187280" y="5484960"/>
            <a:ext cx="745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        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195640" y="59500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4.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Фигурка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клоуна в профил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2124000" y="558972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3. Фигурка клоуна в фа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539640" y="549360"/>
            <a:ext cx="7201080" cy="64764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Так как фигурки у нас получились смешные, предлагаю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выполнить цирковых артистов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560" y="152280"/>
            <a:ext cx="73054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Различные представления о красоте человека в определенные исторические перио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8" descr="3_0001"/>
          <p:cNvPicPr/>
          <p:nvPr/>
        </p:nvPicPr>
        <p:blipFill>
          <a:blip r:embed="rId1"/>
          <a:stretch/>
        </p:blipFill>
        <p:spPr>
          <a:xfrm>
            <a:off x="755640" y="1413000"/>
            <a:ext cx="3108240" cy="2682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3_0002"/>
          <p:cNvPicPr/>
          <p:nvPr/>
        </p:nvPicPr>
        <p:blipFill>
          <a:blip r:embed="rId2"/>
          <a:stretch/>
        </p:blipFill>
        <p:spPr>
          <a:xfrm>
            <a:off x="4643280" y="4005360"/>
            <a:ext cx="3678480" cy="18381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3"/>
          <p:cNvSpPr/>
          <p:nvPr/>
        </p:nvSpPr>
        <p:spPr>
          <a:xfrm>
            <a:off x="5724360" y="6165720"/>
            <a:ext cx="2374920" cy="35892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ревний Египет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17"/>
          <p:cNvSpPr/>
          <p:nvPr/>
        </p:nvSpPr>
        <p:spPr>
          <a:xfrm>
            <a:off x="3924360" y="1341360"/>
            <a:ext cx="4103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Главное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о( живот, грудь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b200"/>
                </a:solidFill>
                <a:uFillTx/>
                <a:latin typeface="Arial"/>
              </a:rPr>
              <a:t>Не обращали внима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лова, лицо, ру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18"/>
          <p:cNvSpPr/>
          <p:nvPr/>
        </p:nvSpPr>
        <p:spPr>
          <a:xfrm>
            <a:off x="1547640" y="4292640"/>
            <a:ext cx="2808360" cy="158436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ские фигуры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 правые руки 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ые ног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WordArt 19"/>
          <p:cNvSpPr txBox="1"/>
          <p:nvPr/>
        </p:nvSpPr>
        <p:spPr>
          <a:xfrm>
            <a:off x="3995640" y="1052640"/>
            <a:ext cx="223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орм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5. Примеры разных движе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Picture 5" descr="а_0011"/>
          <p:cNvPicPr/>
          <p:nvPr/>
        </p:nvPicPr>
        <p:blipFill>
          <a:blip r:embed="rId1"/>
          <a:stretch/>
        </p:blipFill>
        <p:spPr>
          <a:xfrm>
            <a:off x="2843280" y="1341360"/>
            <a:ext cx="31687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Творческая странич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765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Как вы думаете, найдется ли работа для художника в цирк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Выбрать артиста определенного жанр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«Одеть» фигурку в яркий костю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(используя фломастеры и цветную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бумагу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Расположить свои фигурки н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«арене цирка» путем приклеива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45840" y="1628280"/>
            <a:ext cx="8497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то нового мы узнали на урок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поиск пропорции фигуры человека в различные исторические периоды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 какими новыми терминами мы познакомилис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«пропорции». «канон», «золотое сечение»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ему научилис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учились находить пропорции, выполняли фигурки человечков в движении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то понравилось на уроке?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Подобрать рисунк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              </a:t>
            </a: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с изображением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                 </a:t>
            </a: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человека в движен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152280"/>
            <a:ext cx="73054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Различные представления о красоте человека в определенные исторические перио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5" descr="3_0003"/>
          <p:cNvPicPr/>
          <p:nvPr/>
        </p:nvPicPr>
        <p:blipFill>
          <a:blip r:embed="rId1"/>
          <a:stretch/>
        </p:blipFill>
        <p:spPr>
          <a:xfrm>
            <a:off x="6300720" y="1268280"/>
            <a:ext cx="1785960" cy="3614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3_0004"/>
          <p:cNvPicPr/>
          <p:nvPr/>
        </p:nvPicPr>
        <p:blipFill>
          <a:blip r:embed="rId2"/>
          <a:stretch/>
        </p:blipFill>
        <p:spPr>
          <a:xfrm>
            <a:off x="324000" y="1341360"/>
            <a:ext cx="2100240" cy="36813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8"/>
          <p:cNvSpPr/>
          <p:nvPr/>
        </p:nvSpPr>
        <p:spPr>
          <a:xfrm>
            <a:off x="3276720" y="1484280"/>
            <a:ext cx="2447640" cy="25542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тографическа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хожесть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стичность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ция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ота тела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ота лиц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10_0006"/>
          <p:cNvPicPr/>
          <p:nvPr/>
        </p:nvPicPr>
        <p:blipFill>
          <a:blip r:embed="rId1"/>
          <a:stretch/>
        </p:blipFill>
        <p:spPr>
          <a:xfrm>
            <a:off x="250920" y="981000"/>
            <a:ext cx="3449520" cy="5499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11_0006"/>
          <p:cNvPicPr/>
          <p:nvPr/>
        </p:nvPicPr>
        <p:blipFill>
          <a:blip r:embed="rId2"/>
          <a:stretch/>
        </p:blipFill>
        <p:spPr>
          <a:xfrm>
            <a:off x="4716360" y="1052640"/>
            <a:ext cx="3210120" cy="5167080"/>
          </a:xfrm>
          <a:prstGeom prst="rect">
            <a:avLst/>
          </a:prstGeom>
          <a:ln w="0">
            <a:noFill/>
          </a:ln>
        </p:spPr>
      </p:pic>
      <p:sp>
        <p:nvSpPr>
          <p:cNvPr id="167" name="WordArt 8"/>
          <p:cNvSpPr txBox="1"/>
          <p:nvPr/>
        </p:nvSpPr>
        <p:spPr>
          <a:xfrm>
            <a:off x="3492360" y="404640"/>
            <a:ext cx="2159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вет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15_0005"/>
          <p:cNvPicPr/>
          <p:nvPr/>
        </p:nvPicPr>
        <p:blipFill>
          <a:blip r:embed="rId1"/>
          <a:stretch/>
        </p:blipFill>
        <p:spPr>
          <a:xfrm>
            <a:off x="395280" y="260280"/>
            <a:ext cx="3789360" cy="6315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15_0006"/>
          <p:cNvPicPr/>
          <p:nvPr/>
        </p:nvPicPr>
        <p:blipFill>
          <a:blip r:embed="rId2"/>
          <a:stretch/>
        </p:blipFill>
        <p:spPr>
          <a:xfrm>
            <a:off x="4788000" y="333360"/>
            <a:ext cx="39528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8" descr="12_0006"/>
          <p:cNvPicPr/>
          <p:nvPr/>
        </p:nvPicPr>
        <p:blipFill>
          <a:blip r:embed="rId1"/>
          <a:stretch/>
        </p:blipFill>
        <p:spPr>
          <a:xfrm>
            <a:off x="324000" y="260280"/>
            <a:ext cx="3989160" cy="26463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9"/>
          <p:cNvSpPr/>
          <p:nvPr/>
        </p:nvSpPr>
        <p:spPr>
          <a:xfrm>
            <a:off x="842400" y="314172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А. Матис. Танец. Масло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Франция. 19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10" descr="13_0006"/>
          <p:cNvPicPr/>
          <p:nvPr/>
        </p:nvPicPr>
        <p:blipFill>
          <a:blip r:embed="rId2"/>
          <a:stretch/>
        </p:blipFill>
        <p:spPr>
          <a:xfrm>
            <a:off x="5076720" y="260280"/>
            <a:ext cx="3384720" cy="33130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3"/>
          <p:cNvSpPr/>
          <p:nvPr/>
        </p:nvSpPr>
        <p:spPr>
          <a:xfrm>
            <a:off x="3919320" y="3573360"/>
            <a:ext cx="48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П. Брейтель Младший 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Ярмарка с театральным представление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539640" y="4941720"/>
            <a:ext cx="7993080" cy="1151280"/>
          </a:xfrm>
          <a:prstGeom prst="rect">
            <a:avLst/>
          </a:prstGeom>
          <a:solidFill>
            <a:srgbClr val="ffef66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ЧЕЛОВЕК – главная тема в искусстве. Каждая историческая эпох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Выражает понимание красоты по-своему, но в этом разнообразии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Безусловно, есть что-то общее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omic Sans MS"/>
              </a:rPr>
              <a:t>Пропорции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7913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Слово пропорция в переводе с латыни обозначает, «соотношение», «соразмерность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ропорциями называются размерные соотношения элементов или частей формы между собой, а также между различными объекта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ропорция это гармонизация формы художественного произведения, пропорциональность – её эстетическое качество. Соразмерность частей образует красоту форм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88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716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404640"/>
            <a:ext cx="6870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а уроке нам понадобитс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6960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1.   Альбомный лис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2.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Цветная бумага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3.   Ножницы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4.   Кл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5.   Простой карандаш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6.   Фломастер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8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36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80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12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88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иск пропорц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395280" y="620640"/>
            <a:ext cx="7416720" cy="72072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Обратимся к истории. Как решили её художники разны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эпох и разных культур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2556000" y="1484280"/>
            <a:ext cx="2808000" cy="4320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Comic Sans MS"/>
              </a:rPr>
              <a:t>Древний Египе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12" descr="а_0001"/>
          <p:cNvPicPr/>
          <p:nvPr/>
        </p:nvPicPr>
        <p:blipFill>
          <a:blip r:embed="rId1"/>
          <a:stretch/>
        </p:blipFill>
        <p:spPr>
          <a:xfrm>
            <a:off x="6804000" y="1413000"/>
            <a:ext cx="1776600" cy="48528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4"/>
          <p:cNvSpPr/>
          <p:nvPr/>
        </p:nvSpPr>
        <p:spPr>
          <a:xfrm>
            <a:off x="250920" y="1484280"/>
            <a:ext cx="6408720" cy="417672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                        </a:t>
            </a: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Древний Егип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Канон</a:t>
            </a:r>
            <a:r>
              <a:rPr b="1" lang="ru-RU" sz="2400" spc="-1" strike="noStrike" u="sng">
                <a:solidFill>
                  <a:srgbClr val="00b200"/>
                </a:solidFill>
                <a:uFillTx/>
                <a:latin typeface="Times New Roman"/>
              </a:rPr>
              <a:t> –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то ес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такая система пропорций человеческой фигуры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которая делила изображения на части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Египтяне положили в основу деление фигу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21 ¼ части. В это число входили 19 равных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част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Разделения самой фигуры, 2 ¼ част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риходилась на изображени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головного убор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6732720" y="1916280"/>
            <a:ext cx="18000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2:12:51Z</dcterms:created>
  <dc:creator>*</dc:creator>
  <dc:description/>
  <dc:language>en-US</dc:language>
  <cp:lastModifiedBy>Owner</cp:lastModifiedBy>
  <dcterms:modified xsi:type="dcterms:W3CDTF">2011-07-20T14:07:02Z</dcterms:modified>
  <cp:revision>64</cp:revision>
  <dc:subject/>
  <dc:title>Пропорции и строение фигуры челове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